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575-86C5-4E7C-B033-57943D4E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2176-7F46-4A25-9775-4383394F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10C-2EF2-4700-9139-AC3FCED2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1F78-D9A3-4A08-9528-6CD353F4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7594-1B02-4FF7-A326-1C0D883B1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34E4-5EA5-4719-A63E-945E35D3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6B8-FF00-426A-8D4E-5E5DBD203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4F1A-3431-4992-892F-749F7894A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ACB9-C653-4EFB-B525-24FB7A02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A67B-7C4F-4EB6-92A3-5C5F5D49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7E3-3E26-4CA3-A703-5A844099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59D-0EC3-45CA-AD7B-6602B7D7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98A-D966-4E8A-B512-F066ADB3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3FD-2264-46A1-9D41-357190C8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4263-E26F-41AE-A8A4-00EF34ECF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5C9-0094-436C-AB59-133925664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54E-7930-4228-961B-A85933EC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01F2-3871-4121-B7A4-EE309188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837E-9976-434E-A213-66D91D56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AE38-DF86-41D8-9C8D-1FE618020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397-2047-4190-A342-109C7D37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2AC5-87CA-41E0-8BF0-2CE47C049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7D64-C42F-4F83-98C5-2D1A9BC1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A307-7413-414E-AC75-8834A9E5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9C5-8D24-4D24-A02C-5306B6C0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EE6-E156-4156-8032-010A4F32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BFB7-9C2B-4DD2-A515-A4F610E6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5BEC-65CB-431B-B70A-5FF7BADA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F07-34FF-4EA7-9156-350A3B65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1DE2-5380-4ACE-AFAD-2CF803B0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6EBE-03FE-4E1A-82D4-20360BF4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E3E-BC29-48F6-891A-D840F0F50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5A9-6955-4B94-A8B0-4EE2141B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3B7-E501-4F8B-9376-F815C1B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A4B09-9287-46BB-B6FE-79B5A3D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9035-E8A1-43DA-9DF5-46B4DADA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CC57F-4D39-4216-AC53-1232EAAF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9598-745F-4904-A39D-17A0CEEB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B8535-1171-4502-B575-3123EAF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0DDA0-D0AC-4D71-9F40-CE95970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62B48-0AA9-4D71-AC78-6B85AFA8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FFE0-0CE0-4E9B-A7FA-3D9B0FF2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81FD-5425-4DC3-8A4C-78037CE5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BFCC-94F0-4355-95F8-B701E7FB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DB9-1D19-4BF4-A59A-98AA8564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5C382-3F9B-43AF-BD1F-A2BC58E9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05115-1016-47A9-BCE1-CEDDD2B9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FB818-7246-499A-AE84-6BA4F0B8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6B3F0-00C0-49DE-AF99-F6050198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DD58C-873C-42BE-85E3-9EED5D2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F58BB-40F9-4DA1-8068-767C656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62566-4449-44C3-BFE0-083365F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1B2E6-2630-49C4-9DD6-263526A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61931-CCB9-4276-94AE-E4CDE63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EEAF1-FFDF-4F34-BA62-A83E9541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C3E-7791-4943-9F57-0FB43B05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748C8-844A-492B-B04E-7BF57EBE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C93DC-AAC2-47A9-979D-2A10CE0B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1C72A-630E-4C1B-B268-9076CB5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CBC8-190A-47C2-9EDA-B1E97CD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22C0-4BCF-4706-956B-4D17A759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83467-0E80-4B0C-AA86-1BEFB089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B85D3-C591-4D5C-90A2-95F5F7B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EA67E-AD21-4816-9603-9632712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419B4-219D-423C-A7A0-1A35280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6ECDA-D40D-4AAA-B2AB-DEABFC6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FA2E-4C0B-4CBB-8FDC-6FBDB305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6FD5A-F420-451E-BF7C-DD83F65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1031-AC93-475D-BC52-A2682E5C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93A77-66F2-4415-946D-1FF71EE5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58AAC-FD3E-45AF-A8AA-BF0D0808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18A74-8389-48CE-88DE-09E92F7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0B991-A231-478D-B669-4EB0782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6090F-A955-4E79-A8C3-06B401F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965E5-C1A9-46D0-B0F6-639273DB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DCDF2-9D9A-4131-AF78-333331B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1E4C9-1F70-407B-92DD-4CC6524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F0D0-BFEE-44CA-B0F6-A8C03064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CBDA5-6625-4C04-ADDD-CB0CB0C8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1ACCF-D7DA-4759-8B09-1679E64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E6F71-6DBE-4455-823D-4C78D24D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FC8AD-9062-452C-8BF1-2C801A50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85047-899C-43CD-A9D9-7574CC5E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B0AE-54DE-48EA-8600-D7B27823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03B-1CC4-4160-BCF9-D30AE71A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3FEF-CEDD-48A3-93CD-CD5CDA0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DFF3-004E-4A8E-BA08-3F829C1C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8426-E1EB-40E7-B9DE-79DD797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2BA-3A02-45AA-93AC-EFE4232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0246-2625-44D4-95B3-A246BD7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097C-5D6C-4707-8549-7BED18F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BC66-75E7-46FE-8816-B302A928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1CDA-1B18-4FA5-BD8C-0D634886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11DC-AC3B-4568-A62A-F1AC50DC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6B6A-9022-414A-90A5-6E253748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E0A6-4ECA-4BD7-8A6D-01A513D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4D7C-D798-453E-B5C3-A2A3060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EB9B-6BE2-4636-9EC2-E3583D2E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5A20-092C-4F32-B7B6-C75829FA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01A-F251-4198-BA9F-EB54AFC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7F69-332D-4D48-863A-F1D2606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6D68-56C1-4071-AEFC-8FE87DC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DF63-5423-4AE4-98E4-6262CE1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D939-99C7-4659-8DD4-4D47EF2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6550-C038-4224-9632-F10816AE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1E08-E6FF-45B4-8471-2FF4D37C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DEA0-2D18-450E-BC82-FA208AE0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2A45-D97E-4DFC-A53C-FD7DA217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D8D8-33B6-4175-81CC-DF9AF9D2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0D44-C703-4583-AE2D-15693CCC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C69-CF5A-4E1D-A5CF-EC597EF1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31CA6-06DB-4124-928E-33B9F856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DBE0-CDD2-4811-A0F4-708A733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5C9D-3129-44CA-ADB7-00AE7B4A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AE67-CEC4-4CAB-85C6-BBF1C2A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FAB5A-855F-4F7B-8AA0-04F8197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192E-C510-41C3-BDCD-2293FA9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D4D4-084E-4B66-B8D1-A73029AC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22F9-CDD4-47BE-AA3F-6153D9D3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0155B-FAAC-42A8-8AE4-B607011E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A280-93E2-401B-802C-5C252ACC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3E8-58AA-4303-98C8-5DEA5527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16150-CA66-4286-984E-5F30D06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2D5B-B7E5-45A1-AA9C-2428F21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19AE-BCAF-4789-BC87-C280017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0F1A-0743-41C3-9CCA-87D8576E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33F4-3930-453F-9D10-08F4199F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450D-17EA-463E-9386-D479BF7C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2A0F-DA60-4A2B-B00C-4EF4350C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72A5-F611-413E-96B4-D620F22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57C82-140A-4C38-9A95-F793F174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B572-3323-426B-88D4-7450C94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60B-5AE6-4B60-9B53-846107EB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717A-1E0D-4C82-9873-D7D00DE2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9B62E-44D8-4D40-B542-B7BFE326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C5C1-E3BE-47D4-807D-5E30BD5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E9C5-0350-435E-92F8-1634BC9C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03F7-0018-4AE2-A614-1C434D7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1BD53-9D2C-4F07-AD53-721B80B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C0B5-14B7-4D09-B65D-1D962A1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7EB8E-779B-41B0-BB9B-EDC9D762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85DB-6C48-405D-A30C-1EB2FD9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2661-DD42-48E1-88A9-FF6DB16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F69-8DBB-433B-A7B2-84E1317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7741-3F11-466B-8C7E-0E5EA094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6B84-5801-4882-A37F-73499965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8543-B21C-460F-AC08-F08DD56D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79137-71F0-4651-BE1A-9945B08E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35F3-08CE-4508-91B6-EBBCFF9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FBB3-85DA-4319-8BF3-B5AA70A7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86EE2-BF25-4FE7-A9AE-EAA86257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890C-65C4-4D88-BCC5-98C3E339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AF62-2A73-4C71-B56A-02F5D88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CCFA7-68A8-4BB5-99BD-6545603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25D-3EDE-445D-B0CA-0C355B0A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58A9-E926-440B-9919-5444DF0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8343-43C1-4275-A877-CB15D58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1940A-C986-4831-BD47-3197DB8E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E83B-6EA7-4B28-B3B8-5DA97FD4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D75C-7FF1-4527-BC50-4573F8A7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9655D-DF15-4030-B7DA-8A167CDA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D9AC8-9287-4B4C-A198-459C03E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6029-3ED8-4946-82FD-E801FCA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E6A06-741D-437E-8381-24B38D04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A792C-B21E-4185-9DD4-0785D46B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CB1-68F1-4C4C-ABFA-BAB9092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817A-3222-4BFD-A54B-164F3F5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D5808-F79C-48BC-9A49-B032C5FC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38822-BECF-48B8-BEC1-367FCF3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5A59-419C-4917-AC79-EB4CF83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8DEA2-F4A4-473B-8A6D-09925F48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55C1-6D10-4203-8408-A03582CE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38969-533D-47B0-9761-122B4A2A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2D274-408A-445A-82DA-BF1A6A78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3F6A1-4FB2-4619-82D6-F6FE8FBB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BAEF2-9A75-4350-91B5-46CAAFBA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F5A4-374B-444D-8B70-845331670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9A6-93D3-430D-A237-D8D69B673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FD2-5C69-4050-BC7F-557D6976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E88-D779-476C-B625-1E37C379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83EB-01AA-428F-A67D-8E8FDC133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E3BB-8C24-49B2-AED8-A0CBFA10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6D5-93C6-4A52-93C4-1EF8EBCC1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D8A-DD11-4B3A-8CFF-17BF85BA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AEB-D765-4B29-B28B-61A771AF4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828F-AF52-4C27-B1BE-E6CA4817E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19A-DAA7-4B63-87C3-40CD0F94B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A60E-4ED4-4D63-9F70-1B11B9BA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2">
            <a:hlinkClick r:id="rId7" action="ppaction://hlinksldjump"/>
          </p:cNvPr>
          <p:cNvSpPr/>
          <p:nvPr/>
        </p:nvSpPr>
        <p:spPr>
          <a:xfrm>
            <a:off x="18288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3">
            <a:hlinkClick r:id="rId9" action="ppaction://hlinksldjump"/>
          </p:cNvPr>
          <p:cNvSpPr/>
          <p:nvPr/>
        </p:nvSpPr>
        <p:spPr>
          <a:xfrm>
            <a:off x="18288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6"/>
          <p:cNvSpPr/>
          <p:nvPr/>
        </p:nvSpPr>
        <p:spPr>
          <a:xfrm>
            <a:off x="36576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7"/>
          <p:cNvSpPr/>
          <p:nvPr/>
        </p:nvSpPr>
        <p:spPr>
          <a:xfrm>
            <a:off x="36576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8"/>
          <p:cNvSpPr/>
          <p:nvPr/>
        </p:nvSpPr>
        <p:spPr>
          <a:xfrm>
            <a:off x="36576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1"/>
          <p:cNvSpPr/>
          <p:nvPr/>
        </p:nvSpPr>
        <p:spPr>
          <a:xfrm>
            <a:off x="54864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2"/>
          <p:cNvSpPr/>
          <p:nvPr/>
        </p:nvSpPr>
        <p:spPr>
          <a:xfrm>
            <a:off x="54864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3"/>
          <p:cNvSpPr/>
          <p:nvPr/>
        </p:nvSpPr>
        <p:spPr>
          <a:xfrm>
            <a:off x="54864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6"/>
          <p:cNvSpPr/>
          <p:nvPr/>
        </p:nvSpPr>
        <p:spPr>
          <a:xfrm>
            <a:off x="73152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7"/>
          <p:cNvSpPr/>
          <p:nvPr/>
        </p:nvSpPr>
        <p:spPr>
          <a:xfrm>
            <a:off x="73152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8"/>
          <p:cNvSpPr/>
          <p:nvPr/>
        </p:nvSpPr>
        <p:spPr>
          <a:xfrm>
            <a:off x="73152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0"/>
          <p:cNvSpPr/>
          <p:nvPr/>
        </p:nvSpPr>
        <p:spPr>
          <a:xfrm>
            <a:off x="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059"/>
          <p:cNvSpPr/>
          <p:nvPr/>
        </p:nvSpPr>
        <p:spPr>
          <a:xfrm>
            <a:off x="485280" y="1676520"/>
            <a:ext cx="82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tough polyester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to make bullet proof v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Kevl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040"/>
          <p:cNvSpPr/>
          <p:nvPr/>
        </p:nvSpPr>
        <p:spPr>
          <a:xfrm>
            <a:off x="-121320" y="1752480"/>
            <a:ext cx="931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variation of polyethylene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in crinkly opaque plastics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D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physical properties of polymer can be changed by shortening or lengthening thi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h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DPE is transparent whereas HDPE is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paq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polymerization of highly branched monomers result in this type of soli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morpho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99880" y="990720"/>
            <a:ext cx="85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ame this Poly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" descr="Teflon_structure.PNG"/>
          <p:cNvPicPr/>
          <p:nvPr/>
        </p:nvPicPr>
        <p:blipFill>
          <a:blip r:embed="rId1"/>
          <a:stretch/>
        </p:blipFill>
        <p:spPr>
          <a:xfrm>
            <a:off x="2819520" y="1987560"/>
            <a:ext cx="3047760" cy="26668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"/>
          <p:cNvSpPr/>
          <p:nvPr/>
        </p:nvSpPr>
        <p:spPr>
          <a:xfrm>
            <a:off x="838080" y="48434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t0.gstatic.com/images?q=tbn:ANd9GcSggNayC0SV54IKwoTTvDT5R-kjh9asrnK4J-pnaIwhKJzrwpAOEbHH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mall molecules are the basic units of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mono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The structural formula of a polymer uses these to indicate a repeating uni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are parenthe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ructural formula of a polymer, a variable (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used to represent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hain leng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 polymerization reactions typically occur between these types of aliphatic hydrocarb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lke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densation polymerization results in the elimination of a smaller molecules. A common by product i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olyterafluoroetha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fl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034"/>
          <p:cNvSpPr/>
          <p:nvPr/>
        </p:nvSpPr>
        <p:spPr>
          <a:xfrm>
            <a:off x="4098960" y="1521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35"/>
          <p:cNvSpPr/>
          <p:nvPr/>
        </p:nvSpPr>
        <p:spPr>
          <a:xfrm>
            <a:off x="295200" y="1219320"/>
            <a:ext cx="862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roduc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erization of adipic acid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mino hexan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ylon 6,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2228400" y="1322280"/>
            <a:ext cx="46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1" descr="218px-Polystyrene.svg.png"/>
          <p:cNvPicPr/>
          <p:nvPr/>
        </p:nvPicPr>
        <p:blipFill>
          <a:blip r:embed="rId1"/>
          <a:stretch/>
        </p:blipFill>
        <p:spPr>
          <a:xfrm>
            <a:off x="3030480" y="2100240"/>
            <a:ext cx="2768760" cy="33019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"/>
          <p:cNvSpPr/>
          <p:nvPr/>
        </p:nvSpPr>
        <p:spPr>
          <a:xfrm>
            <a:off x="380880" y="5330880"/>
            <a:ext cx="815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t1.gstatic.com/images?q=tbn:ANd9GcRCeJL7DmnsdkVu3g4qP1YwB7SCC-lGLX4pspdnTNQdCCkF4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styr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benze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6"/>
          <p:cNvSpPr/>
          <p:nvPr/>
        </p:nvSpPr>
        <p:spPr>
          <a:xfrm>
            <a:off x="228600" y="1071720"/>
            <a:ext cx="848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ester. You’ve probably seen it in the text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2286000" y="2552760"/>
            <a:ext cx="4589640" cy="25351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1982880" y="5240160"/>
            <a:ext cx="51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sks-science.com/images/ChemPET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ET (Polyethylene terephthalate)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065"/>
          <p:cNvSpPr/>
          <p:nvPr/>
        </p:nvSpPr>
        <p:spPr>
          <a:xfrm>
            <a:off x="1319760" y="1905120"/>
            <a:ext cx="649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is polymer is commonl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sed in the making of pi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vinylchlori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VC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Brandon</cp:lastModifiedBy>
  <dcterms:modified xsi:type="dcterms:W3CDTF">2012-10-13T22:39:55Z</dcterms:modified>
  <cp:revision>58</cp:revision>
  <dc:subject/>
  <dc:title>No Slide Title</dc:title>
</cp:coreProperties>
</file>